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3F11-C4E6-4B0D-AF41-0E02AF4DA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0BA9-88F1-4D3A-A854-9D708AAF0A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his to translating the circle with equat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its to the right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it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C92-76FB-460F-AD7D-DACE9E07E5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FFA-79CF-4B9A-8B5B-CE38C5E9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514-1222-425B-A35A-166D52A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4DC-3EB4-4E13-A7F3-1AE34910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DD0-AF77-437C-83B1-BFB0B5EB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928-1FFE-42C5-B376-47252DFA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985-0544-4741-8D5B-A22D8D6A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8B9-DBBE-45FE-A927-F6A50A9C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1D5-E5BB-4050-A96E-CF24E732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B38-5384-4AB4-9E2A-80485BD9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1C5-6C21-4C27-ABA4-3B2AC7D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BAF-A654-4E9C-B008-236D2B7C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638-0062-4458-9D2C-CF8A6C2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E72-6BB3-48E9-AAEB-92A33983131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54C-AD6A-4E24-9730-7654639BA41F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ounded Rectangle 42"/>
          <p:cNvSpPr/>
          <p:nvPr/>
        </p:nvSpPr>
        <p:spPr>
          <a:xfrm>
            <a:off x="0" y="4714920"/>
            <a:ext cx="5929200" cy="17143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4933440" y="1285920"/>
            <a:ext cx="4210200" cy="4361760"/>
            <a:chOff x="4933440" y="1285920"/>
            <a:chExt cx="4210200" cy="4361760"/>
          </a:xfrm>
        </p:grpSpPr>
        <p:sp>
          <p:nvSpPr>
            <p:cNvPr id="56" name="Text Box 3"/>
            <p:cNvSpPr/>
            <p:nvPr/>
          </p:nvSpPr>
          <p:spPr>
            <a:xfrm>
              <a:off x="8877240" y="3295800"/>
              <a:ext cx="266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4933440" y="1285920"/>
              <a:ext cx="4010400" cy="4361760"/>
              <a:chOff x="4933440" y="1285920"/>
              <a:chExt cx="4010400" cy="4361760"/>
            </a:xfrm>
          </p:grpSpPr>
          <p:sp>
            <p:nvSpPr>
              <p:cNvPr id="58" name="Text Box 5"/>
              <p:cNvSpPr/>
              <p:nvPr/>
            </p:nvSpPr>
            <p:spPr>
              <a:xfrm>
                <a:off x="6819480" y="1285920"/>
                <a:ext cx="26640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Group 6"/>
              <p:cNvGrpSpPr/>
              <p:nvPr/>
            </p:nvGrpSpPr>
            <p:grpSpPr>
              <a:xfrm>
                <a:off x="4933440" y="1465920"/>
                <a:ext cx="4010400" cy="4181760"/>
                <a:chOff x="4933440" y="1465920"/>
                <a:chExt cx="4010400" cy="4181760"/>
              </a:xfrm>
            </p:grpSpPr>
            <p:grpSp>
              <p:nvGrpSpPr>
                <p:cNvPr id="60" name="Group 7"/>
                <p:cNvGrpSpPr/>
                <p:nvPr/>
              </p:nvGrpSpPr>
              <p:grpSpPr>
                <a:xfrm>
                  <a:off x="5333760" y="1874880"/>
                  <a:ext cx="3239640" cy="3239640"/>
                  <a:chOff x="5333760" y="1874880"/>
                  <a:chExt cx="3239640" cy="3239640"/>
                </a:xfrm>
              </p:grpSpPr>
              <p:sp>
                <p:nvSpPr>
                  <p:cNvPr id="61" name="Rectangle 8"/>
                  <p:cNvSpPr/>
                  <p:nvPr/>
                </p:nvSpPr>
                <p:spPr>
                  <a:xfrm>
                    <a:off x="5333760" y="1874880"/>
                    <a:ext cx="3239640" cy="32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Group 9"/>
                  <p:cNvGrpSpPr/>
                  <p:nvPr/>
                </p:nvGrpSpPr>
                <p:grpSpPr>
                  <a:xfrm>
                    <a:off x="5333760" y="1874880"/>
                    <a:ext cx="3239640" cy="3239640"/>
                    <a:chOff x="5333760" y="1874880"/>
                    <a:chExt cx="3239640" cy="3239640"/>
                  </a:xfrm>
                </p:grpSpPr>
                <p:sp>
                  <p:nvSpPr>
                    <p:cNvPr id="63" name="Oval 10"/>
                    <p:cNvSpPr/>
                    <p:nvPr/>
                  </p:nvSpPr>
                  <p:spPr>
                    <a:xfrm>
                      <a:off x="5333760" y="1874880"/>
                      <a:ext cx="3239640" cy="323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2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Oval 11"/>
                    <p:cNvSpPr/>
                    <p:nvPr/>
                  </p:nvSpPr>
                  <p:spPr>
                    <a:xfrm>
                      <a:off x="5686200" y="2255760"/>
                      <a:ext cx="2520000" cy="252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Oval 12"/>
                    <p:cNvSpPr/>
                    <p:nvPr/>
                  </p:nvSpPr>
                  <p:spPr>
                    <a:xfrm>
                      <a:off x="6050160" y="2617560"/>
                      <a:ext cx="1800000" cy="180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Oval 13"/>
                    <p:cNvSpPr/>
                    <p:nvPr/>
                  </p:nvSpPr>
                  <p:spPr>
                    <a:xfrm>
                      <a:off x="6411960" y="2979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cxnSp>
              <p:nvCxnSpPr>
                <p:cNvPr id="67" name="AutoShape 14"/>
                <p:cNvCxnSpPr/>
                <p:nvPr/>
              </p:nvCxnSpPr>
              <p:spPr>
                <a:xfrm flipV="1">
                  <a:off x="6962760" y="1465920"/>
                  <a:ext cx="10080" cy="4182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" name="AutoShape 15"/>
                <p:cNvCxnSpPr/>
                <p:nvPr/>
              </p:nvCxnSpPr>
              <p:spPr>
                <a:xfrm flipV="1">
                  <a:off x="4933440" y="3418920"/>
                  <a:ext cx="4010760" cy="19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sp>
        <p:nvSpPr>
          <p:cNvPr id="69" name="TextBox 35"/>
          <p:cNvSpPr/>
          <p:nvPr/>
        </p:nvSpPr>
        <p:spPr>
          <a:xfrm>
            <a:off x="0" y="4786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1000080" y="4786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of first circle is 2cm diam 4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1071720" y="53578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third circle is 8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1071720" y="50720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second circle is 6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1071720" y="564372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fourth circle is 10cm with a radius 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14300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ounded Rectangle 43"/>
          <p:cNvSpPr/>
          <p:nvPr/>
        </p:nvSpPr>
        <p:spPr>
          <a:xfrm>
            <a:off x="0" y="1714680"/>
            <a:ext cx="4786200" cy="3000240"/>
          </a:xfrm>
          <a:prstGeom prst="roundRect">
            <a:avLst>
              <a:gd name="adj" fmla="val 16667"/>
            </a:avLst>
          </a:pr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142920" y="1785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quare emblem has a circle at its centre with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928960" y="2286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0" y="2643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repeats to the edge of the emblem with circles on the same centre with a radius of 1cm more eac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42920" y="3714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lem side is 10 cm what is the equation of the largest circle on the em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857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xam standard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69236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21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45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268360" y="321300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30872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0" y="3284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71636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0" y="549360"/>
            <a:ext cx="241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11280" y="620640"/>
            <a:ext cx="75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70    To build skills   Exercise 2A Q1 to Q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7,Q8 towards exam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0" y="3645000"/>
            <a:ext cx="18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ncentric means same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68360" y="3645000"/>
            <a:ext cx="18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Wording of question is confusing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572000" y="35733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Method same as bef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02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More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3203640" y="17002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Find the radius fir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el the points Centre (a,b) and the Point as (x,y). Then substitute into the general equation to find radi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7451640" y="1916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Draw axis first. Circle in each quad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4"/>
          <p:cNvSpPr/>
          <p:nvPr/>
        </p:nvSpPr>
        <p:spPr>
          <a:xfrm>
            <a:off x="755640" y="5013360"/>
            <a:ext cx="75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71    Exercise 2B   Exam standard questions Q1 to Q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5  and Q6 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255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40000" y="2276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556000" y="2924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nday, 05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11120" y="185724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se the circle is not centred on the orig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centred on the point C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428920" y="4287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714760" y="5716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571760" y="1643040"/>
            <a:ext cx="757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distance from (a,b) to (x,y) is given by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(x - 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(y - 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0" y="257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4714560" y="3857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571680" y="2500200"/>
            <a:ext cx="6172200" cy="3202920"/>
            <a:chOff x="571680" y="2500200"/>
            <a:chExt cx="6172200" cy="3202920"/>
          </a:xfrm>
        </p:grpSpPr>
        <p:grpSp>
          <p:nvGrpSpPr>
            <p:cNvPr id="105" name="Group 22"/>
            <p:cNvGrpSpPr/>
            <p:nvPr/>
          </p:nvGrpSpPr>
          <p:grpSpPr>
            <a:xfrm>
              <a:off x="571680" y="2881080"/>
              <a:ext cx="4038480" cy="2136240"/>
              <a:chOff x="571680" y="2881080"/>
              <a:chExt cx="4038480" cy="2136240"/>
            </a:xfrm>
          </p:grpSpPr>
          <p:sp>
            <p:nvSpPr>
              <p:cNvPr id="106" name="Line 6"/>
              <p:cNvSpPr/>
              <p:nvPr/>
            </p:nvSpPr>
            <p:spPr>
              <a:xfrm flipV="1">
                <a:off x="1638360" y="2881080"/>
                <a:ext cx="2971800" cy="18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7"/>
              <p:cNvSpPr/>
              <p:nvPr/>
            </p:nvSpPr>
            <p:spPr>
              <a:xfrm>
                <a:off x="571680" y="4557600"/>
                <a:ext cx="11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a ,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Text Box 12"/>
            <p:cNvSpPr/>
            <p:nvPr/>
          </p:nvSpPr>
          <p:spPr>
            <a:xfrm>
              <a:off x="4610160" y="463356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(x , 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23"/>
            <p:cNvGrpSpPr/>
            <p:nvPr/>
          </p:nvGrpSpPr>
          <p:grpSpPr>
            <a:xfrm>
              <a:off x="1638360" y="2500200"/>
              <a:ext cx="5105520" cy="2209680"/>
              <a:chOff x="1638360" y="2500200"/>
              <a:chExt cx="5105520" cy="2209680"/>
            </a:xfrm>
          </p:grpSpPr>
          <p:sp>
            <p:nvSpPr>
              <p:cNvPr id="110" name="Line 5"/>
              <p:cNvSpPr/>
              <p:nvPr/>
            </p:nvSpPr>
            <p:spPr>
              <a:xfrm flipV="1">
                <a:off x="4610160" y="2881080"/>
                <a:ext cx="0" cy="1828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4"/>
              <p:cNvSpPr/>
              <p:nvPr/>
            </p:nvSpPr>
            <p:spPr>
              <a:xfrm>
                <a:off x="1638360" y="4709880"/>
                <a:ext cx="2971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10160" y="25002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x , y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5448240" y="35668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y –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Line 13"/>
            <p:cNvSpPr/>
            <p:nvPr/>
          </p:nvSpPr>
          <p:spPr>
            <a:xfrm flipV="1">
              <a:off x="3238560" y="478584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2705040" y="5243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(x – 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 Box 17"/>
          <p:cNvSpPr/>
          <p:nvPr/>
        </p:nvSpPr>
        <p:spPr>
          <a:xfrm>
            <a:off x="428760" y="564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y Pythag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357720" y="6000840"/>
            <a:ext cx="3657600" cy="398880"/>
          </a:xfrm>
          <a:prstGeom prst="rect">
            <a:avLst/>
          </a:prstGeom>
          <a:solidFill>
            <a:srgbClr val="001d2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(x - a)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(y - b)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0" y="128592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istanc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equation of a circle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019400" y="1720800"/>
            <a:ext cx="48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be a point on the circle so that CP 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019400" y="4506840"/>
            <a:ext cx="42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Pythagoras 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019400" y="26496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distance from C to P is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019400" y="35784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rizontal distance from C to P is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16280" y="507060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CP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125960" y="557208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324000" y="1914480"/>
            <a:ext cx="3456000" cy="4030560"/>
            <a:chOff x="324000" y="1914480"/>
            <a:chExt cx="3456000" cy="4030560"/>
          </a:xfrm>
        </p:grpSpPr>
        <p:sp>
          <p:nvSpPr>
            <p:cNvPr id="128" name="Rectangle 12"/>
            <p:cNvSpPr/>
            <p:nvPr/>
          </p:nvSpPr>
          <p:spPr>
            <a:xfrm>
              <a:off x="324000" y="1914480"/>
              <a:ext cx="3456000" cy="403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04720" y="2093760"/>
              <a:ext cx="3095640" cy="367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3205080" y="529596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528840" y="52624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472680" y="2055960"/>
              <a:ext cx="2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816120" y="2143080"/>
              <a:ext cx="0" cy="35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549360" y="5300640"/>
              <a:ext cx="29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Oval 19"/>
          <p:cNvSpPr/>
          <p:nvPr/>
        </p:nvSpPr>
        <p:spPr>
          <a:xfrm>
            <a:off x="1042920" y="2701800"/>
            <a:ext cx="2095560" cy="20955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2052720" y="3711600"/>
            <a:ext cx="75960" cy="76320"/>
          </a:xfrm>
          <a:prstGeom prst="ellipse">
            <a:avLst/>
          </a:prstGeom>
          <a:solidFill>
            <a:srgbClr val="b2ecb2"/>
          </a:solidFill>
          <a:ln w="1908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1118520" y="3517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C(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22"/>
          <p:cNvSpPr/>
          <p:nvPr/>
        </p:nvSpPr>
        <p:spPr>
          <a:xfrm>
            <a:off x="2103480" y="2868480"/>
            <a:ext cx="558720" cy="846360"/>
          </a:xfrm>
          <a:custGeom>
            <a:avLst/>
            <a:gdLst>
              <a:gd name="textAreaLeft" fmla="*/ 0 w 558720"/>
              <a:gd name="textAreaRight" fmla="*/ 559080 w 55872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385" h="455">
                <a:moveTo>
                  <a:pt x="0" y="455"/>
                </a:moveTo>
                <a:lnTo>
                  <a:pt x="385" y="0"/>
                </a:lnTo>
              </a:path>
            </a:pathLst>
          </a:custGeom>
          <a:noFill/>
          <a:ln w="28440">
            <a:solidFill>
              <a:srgbClr val="2cae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130120" y="29844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2128680" y="3759120"/>
            <a:ext cx="53820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2035440" y="3697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x 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657520" y="2903400"/>
            <a:ext cx="0" cy="85752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48160" y="3160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y 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8"/>
          <p:cNvGrpSpPr/>
          <p:nvPr/>
        </p:nvGrpSpPr>
        <p:grpSpPr>
          <a:xfrm>
            <a:off x="2591640" y="2476440"/>
            <a:ext cx="885960" cy="436680"/>
            <a:chOff x="2591640" y="2476440"/>
            <a:chExt cx="885960" cy="436680"/>
          </a:xfrm>
        </p:grpSpPr>
        <p:sp>
          <p:nvSpPr>
            <p:cNvPr id="145" name="Text Box 29"/>
            <p:cNvSpPr/>
            <p:nvPr/>
          </p:nvSpPr>
          <p:spPr>
            <a:xfrm>
              <a:off x="2591640" y="2476440"/>
              <a:ext cx="8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GB" sz="20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GB" sz="20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2619360" y="2836800"/>
              <a:ext cx="74520" cy="7632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31"/>
          <p:cNvSpPr/>
          <p:nvPr/>
        </p:nvSpPr>
        <p:spPr>
          <a:xfrm>
            <a:off x="2503440" y="3605040"/>
            <a:ext cx="154080" cy="15408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4200" y="7142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398920" y="4287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214880" y="5572080"/>
            <a:ext cx="43750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398920" y="428760"/>
            <a:ext cx="3745080" cy="76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50920" y="1557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332000" y="278136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0920" y="3860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centred on the point (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84480" y="472428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3440" y="52293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97360" y="573408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71280" y="62373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48436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484360" y="189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14200" y="2500200"/>
            <a:ext cx="31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 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00040" y="30002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3,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357280" y="300024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68360" y="537372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 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 2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14200" y="3857760"/>
            <a:ext cx="30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 2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214960" y="4500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+6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1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0007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+ 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 + 8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58770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5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28760" y="44290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3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072040" y="50007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-6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929120" y="34290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-5,-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340000" y="5877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57280" y="4429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000920" y="50007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143840" y="328608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0" y="1285920"/>
            <a:ext cx="871524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ind the centre and the radius of a circle with the equa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85840" y="32148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0040" y="47862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85840" y="18572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000760" y="385776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072040" y="20718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1341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rite the equation of the circle with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0" y="21337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e (3, -5) and radius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0" y="27813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0" y="3284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+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118944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478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421440" y="1844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92436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4716360" y="2852640"/>
            <a:ext cx="990720" cy="609840"/>
            <a:chOff x="4716360" y="2852640"/>
            <a:chExt cx="990720" cy="609840"/>
          </a:xfrm>
        </p:grpSpPr>
        <p:sp>
          <p:nvSpPr>
            <p:cNvPr id="209" name="Rectangle 25"/>
            <p:cNvSpPr/>
            <p:nvPr/>
          </p:nvSpPr>
          <p:spPr>
            <a:xfrm>
              <a:off x="4716360" y="2852640"/>
              <a:ext cx="990720" cy="6098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4775040" y="2927160"/>
              <a:ext cx="8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A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19"/>
          <p:cNvSpPr/>
          <p:nvPr/>
        </p:nvSpPr>
        <p:spPr>
          <a:xfrm>
            <a:off x="0" y="4076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ntre (7, -3) and radius 2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6516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4 x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651672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258920" y="378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197964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435600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0" y="486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0" y="5661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7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+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1280" y="2205000"/>
            <a:ext cx="759600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ge 17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rcise 2A    Q 1 to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ve Q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7 Q8   (towards exam standard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10-01-10T16:25:02Z</dcterms:modified>
  <cp:revision>19</cp:revision>
  <dc:subject/>
  <dc:title>Higher Circle</dc:title>
</cp:coreProperties>
</file>